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driveby.wav" ContentType="audio/x-wav"/>
  <Override PartName="/ppt/media/image4.jpeg" ContentType="image/jpeg"/>
  <Override PartName="/ppt/media/image3.wmf" ContentType="image/x-wmf"/>
  <Override PartName="/ppt/media/image5.gif" ContentType="image/gif"/>
  <Override PartName="/ppt/media/image6.wmf" ContentType="image/x-wmf"/>
  <Override PartName="/ppt/media/gunsho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FE9B-C7E5-404B-A0F0-AD9394FE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A64C-4DA8-4998-91E3-AB71B9B9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237C-C180-434C-ADE9-9BE5D02A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F9E7-D42B-4E62-B0C7-642C23F7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5169-4D52-412B-AD7D-0C250FC5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A7C8-5AC4-4B05-89AB-A7593642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2A48-B45D-4833-A7D0-B05BC904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3687-385F-4236-B14B-8C9E0CF0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95FD-4E9F-4953-A73B-FCD69781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3615-7C9F-423B-817D-6D757A0B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C06A-8F0C-48E3-8873-C05B9630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67B2-6628-4BD2-9310-CF2ECC08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3C0D-E708-47DE-9A82-E4CB07B9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395D-FC37-48C2-93B5-610A77BD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CB7B-CE0B-41B7-BEA8-9A062311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5FBB-D707-46C4-A220-38D61795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4028-C702-4E85-B70D-23E1CB96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514-D400-49E5-9D2B-75A4DEAF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56F6-25AD-407D-ACAA-3C806226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63AE-3995-453B-A4F3-929E0A94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D83-A3B0-4A40-9E31-F4CDE173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A4AE-5667-4680-AD1F-99C9E154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4D73-7F62-4BCE-B14E-9B4F87C2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EE5-3CF9-4850-9E33-DF2C1160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0CE6-593F-4783-A071-C3C5DC7A04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5F81-6F25-4835-9222-D05459AE10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Times New Roman"/>
              </a:rPr>
              <a:t>Персональный компьютер и здоровье ребенка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156360" y="3860280"/>
            <a:ext cx="2479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тор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упрова 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жина 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уденты 636 групп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5" descr="j0202027"/>
          <p:cNvPicPr/>
          <p:nvPr/>
        </p:nvPicPr>
        <p:blipFill>
          <a:blip r:embed="rId2"/>
          <a:stretch/>
        </p:blipFill>
        <p:spPr>
          <a:xfrm>
            <a:off x="971640" y="2997360"/>
            <a:ext cx="4267080" cy="34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Итоговый этап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95640" y="1557360"/>
            <a:ext cx="5040360" cy="5040360"/>
          </a:xfrm>
          <a:custGeom>
            <a:avLst/>
            <a:gdLst>
              <a:gd name="textAreaLeft" fmla="*/ 1260000 w 5040360"/>
              <a:gd name="textAreaRight" fmla="*/ 3780360 w 5040360"/>
              <a:gd name="textAreaTop" fmla="*/ 0 h 5040360"/>
              <a:gd name="textAreaBottom" fmla="*/ 5040720 h 5040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3789360"/>
            <a:ext cx="16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ятельность уча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789360"/>
            <a:ext cx="172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ятельность педаг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1557360"/>
            <a:ext cx="1922400" cy="50911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щи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е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36000" y="1628640"/>
            <a:ext cx="1706400" cy="489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астие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ллективн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нализе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ценк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зульта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ывод!!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5406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ной принцип работы с детьми на компьютере – помоги, но не навред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пьютер- средство развития ребен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780000" y="4292640"/>
            <a:ext cx="17269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55736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онова Л. А. Персональный компьютер и здоровье дет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 и образование.-1997.-№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Старшова Н. В. Как помочь ребёнку сохранить здоровь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ский сад от А до Я.-2003.- №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6" descr="C:\Program Files\Common Files\Microsoft Shared\Clipart\cagcat50\BS00554_.wmf"/>
          <p:cNvPicPr/>
          <p:nvPr/>
        </p:nvPicPr>
        <p:blipFill>
          <a:blip r:embed="rId2"/>
          <a:stretch/>
        </p:blipFill>
        <p:spPr>
          <a:xfrm>
            <a:off x="5003640" y="1916280"/>
            <a:ext cx="3975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Основополагающий вопрос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ужен ли ребенку компьютер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43280" y="3141720"/>
            <a:ext cx="33256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Проблемные вопросы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жет ли компьютер положительно влиять на здоровье ребенка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жет ли компьютер нанести вред здоровью ребенка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сделать компьютер помощником, а не вредителем для здоровья ребен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Arial"/>
              </a:rPr>
              <a:t>Цель и задачи: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360036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явить влияние компьютера на здоровье ребен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добрать источники информации на тему: «Персональный компьютер и здоровье ребенка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формировать представления о влиянии компьютера на здоровье ребенка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ть рекомендации по использованию ПК в деятельности ребе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copmputer" descr="Это не только мамин ноутбук:)"/>
          <p:cNvPicPr/>
          <p:nvPr/>
        </p:nvPicPr>
        <p:blipFill>
          <a:blip r:embed="rId2"/>
          <a:stretch/>
        </p:blipFill>
        <p:spPr>
          <a:xfrm>
            <a:off x="1619280" y="4581360"/>
            <a:ext cx="161928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Этапы работы над проектом: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540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-380880">
              <a:spcBef>
                <a:spcPts val="1100"/>
              </a:spcBef>
              <a:buClr>
                <a:srgbClr val="ffcc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нициирующий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1100"/>
              </a:spcBef>
              <a:buClr>
                <a:srgbClr val="ffcc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сновополагающий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1100"/>
              </a:spcBef>
              <a:buClr>
                <a:srgbClr val="ffcc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агматический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1100"/>
              </a:spcBef>
              <a:buClr>
                <a:srgbClr val="ffcc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Заключительный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1100"/>
              </a:spcBef>
              <a:buClr>
                <a:srgbClr val="ffcc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тоговы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0">
              <a:spcBef>
                <a:spcPts val="11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7e7ff"/>
                </a:solidFill>
                <a:latin typeface="Arial"/>
              </a:rPr>
              <a:t>Инициирующий этап: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00720" y="2133720"/>
            <a:ext cx="251928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ределение темы, уточнение цели и зада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1628640"/>
            <a:ext cx="3961080" cy="3961080"/>
          </a:xfrm>
          <a:custGeom>
            <a:avLst/>
            <a:gdLst>
              <a:gd name="textAreaLeft" fmla="*/ 990360 w 3961080"/>
              <a:gd name="textAreaRight" fmla="*/ 2971080 w 3961080"/>
              <a:gd name="textAreaTop" fmla="*/ 0 h 3961080"/>
              <a:gd name="textAreaBottom" fmla="*/ 3961440 h 396108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ятельность учащих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2708280"/>
            <a:ext cx="158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бор рабочей групп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3240" y="0"/>
            <a:ext cx="7971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Основополагающий этап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43640" y="378936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383640" y="1557000"/>
            <a:ext cx="2520360" cy="504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41300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73408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3645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ятельность уча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6720" y="3645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ятельность педаг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4280"/>
            <a:ext cx="1873080" cy="504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бо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бочей групп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предел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м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точн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ели и зада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64360" y="1557360"/>
            <a:ext cx="1728720" cy="504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мощь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нализе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нтез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блюд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тро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288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рагматический этап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378936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24000" y="1557360"/>
            <a:ext cx="5040360" cy="5040360"/>
          </a:xfrm>
          <a:custGeom>
            <a:avLst/>
            <a:gdLst>
              <a:gd name="textAreaLeft" fmla="*/ 1260000 w 5040360"/>
              <a:gd name="textAreaRight" fmla="*/ 3780360 w 5040360"/>
              <a:gd name="textAreaTop" fmla="*/ 0 h 5040360"/>
              <a:gd name="textAreaBottom" fmla="*/ 5040720 h 5040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3645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ятельность уча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64000" y="357336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ятельность педаг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557360"/>
            <a:ext cx="1812960" cy="50166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следован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бор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точ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формаци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точ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л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1628640"/>
            <a:ext cx="1728720" cy="482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блюд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сульт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трол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общ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уче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форм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Заключительный этап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9640" y="1197000"/>
            <a:ext cx="5040360" cy="5040360"/>
          </a:xfrm>
          <a:custGeom>
            <a:avLst/>
            <a:gdLst>
              <a:gd name="textAreaLeft" fmla="*/ 1260000 w 5040360"/>
              <a:gd name="textAreaRight" fmla="*/ 3780360 w 5040360"/>
              <a:gd name="textAreaTop" fmla="*/ 0 h 5040360"/>
              <a:gd name="textAreaBottom" fmla="*/ 5040720 h 5040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8360" y="357336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ятельность уча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573360"/>
            <a:ext cx="22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ятельность педаг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197000"/>
            <a:ext cx="1512720" cy="511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форм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ек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ценка сво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бо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ен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20000" y="1268280"/>
            <a:ext cx="1706400" cy="489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блюд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мощь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еспеч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08:26:13Z</dcterms:created>
  <dc:creator>Студент</dc:creator>
  <dc:description/>
  <dc:language>en-US</dc:language>
  <cp:lastModifiedBy>Admin</cp:lastModifiedBy>
  <dcterms:modified xsi:type="dcterms:W3CDTF">2009-05-29T12:02:11Z</dcterms:modified>
  <cp:revision>8</cp:revision>
  <dc:subject/>
  <dc:title>Персональный компьютер и здоровье ребенка</dc:title>
</cp:coreProperties>
</file>